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dt" idx="7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 type="ftr" idx="7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 type="sldNum" idx="7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797B-44AC-4CEE-8B1B-ABD625B34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B09E-A0E5-4E34-934F-FFDAB6AAE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PA is an agency of the United States Department of Defense responsible for the new technology development for use by the military. 1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initial purpose is to find ways to address the US military’s concern about survivability of their communication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 1970s ARPANET became the foundation of today’s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Vinton Cerf and Robert Kahn developed the first description of TCP during 1973, and then in May 1974 the first formal description was publis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ICPA : American Institute of Certified Public Accoun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BA25-D294-48B3-99D9-ABD98E2F3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*) : by Carol L. Cook; “How Computers Have Simplified Accounting”; http://www.yale.edu/ynhti/curriculum/units/1989/7/89.07.06.x.html#e; 18/05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8D77-248E-4A1A-8ED7-54E4720F0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*) : by Carol L. Cook; “How Computers Have Simplified Accounting”; http://www.yale.edu/ynhti/curriculum/units/1989/7/89.07.06.x.html#e; 18/05/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2DED-1311-4B76-AB6C-00F7C863F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D50A-0817-4D2C-85EB-276CAA88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D6EB-184A-441F-9034-AC863ACA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40410-607D-4488-BBDE-B858B830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45A9A-1E10-49B8-82CC-9D25ECF6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B23C6-0D6B-4D14-B064-E8477C28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11593-0CE7-48D7-A2CE-DFE1548F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DAC0E-F23F-43D6-AF34-EF1B8BD8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0E06F-E84E-485F-BAD9-5ACD25AC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00773-BC03-4912-A6B7-5136C5D3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7B055-6FFF-4646-9302-7F200B37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E6C71-D80E-4104-AA4B-586EB88E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6B6B2-2590-461B-82F5-3CF6B04B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A570-2F52-4560-943B-3F5B92DF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2BFA3-046F-4224-876B-A0520194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63CA7-E5EA-4D53-85AF-90F7BDCE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8543E-F014-4681-AAF7-53BFF823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FE2B5-C899-4A06-A543-B9228E45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6F8F3-B58D-4CE9-8C45-896AD26F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761F6-C33E-4559-B994-FAAC72AC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20180-8E08-4972-841D-C8E6610E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FE85E-746C-40CD-B391-96F8F6E5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13B4F-533D-4123-B2C2-0106C59E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71B15-045C-46C3-907F-5129FF5A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31BA-75C6-4233-9999-52CEBE71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CE4AF-D5BC-4EAD-9842-B18115BA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6E440-45FD-4881-B3F4-FD16FE2B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0DD85-6355-459B-9331-7D67DB3A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942EC-3233-496C-9724-8106B4BD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6EE36-B5F3-4364-A519-6FD040EA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C89F4-CBE9-4634-8295-16B50516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7A143-3C30-416F-B2E4-2F6D1D50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98A2B-73DB-465E-8DBA-894BE125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B1611-5FEB-415C-A3CA-9A9CCB8D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E71DF-0DBA-46F7-99C9-9DFDB8AA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0B37-54E6-4472-9E7E-FF1F712F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1F230-355B-4462-BF46-A4FE2681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E2898-7589-401B-B131-14B4F7CE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2BACC-EB66-457D-AC4E-93BCD241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63E27-5791-4FA3-947A-CC9DFD33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327F5-C287-4C4F-8C38-3DBC7277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B0282-FFBA-4513-A9E7-DD9551C3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F463C-4A0A-40B4-9F5F-20FD36A5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69845-0D92-4650-9B09-DA1B206B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79642-37AB-4B5B-AF35-965AF851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9C0DD-8677-4B0C-B36E-CB7FECDE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2D36-0A9A-4DF1-A723-528B26C7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26A69-123E-4009-B473-1C92CE6E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E55BE-C6F1-405D-B456-6A3C548C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6090B-BBBE-4639-9BED-8D2A972F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218E2-C128-4528-8579-34390C60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3D3D8-4E44-48A4-8F40-6C7F8D4D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833A9D-F981-4BD9-BE29-3C32F994F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27112-8A58-4156-9FEC-2BE7BCF9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188845-00E5-4727-A245-9FB62136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961CD6-3E2C-44BE-A4E9-74EA730D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09F568-A674-4C69-8DEB-D7D85267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4527-75E0-4A78-A9BE-97BCAD27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B4AC0C-53DD-4E23-9975-F93E738C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F579FF-AFB5-4A79-AEEB-9B020DF5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B3ABFE-45E9-440A-8B1D-1CAD2F63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AFEF55-9BEE-4107-B2C3-B4FE1894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7E9C4A-078B-43DC-8922-0A1C2791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22E86C-512B-4DFD-AC40-AD039C88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2E0D16-2F0D-4BF1-9573-E3D7CA30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023948-347E-45D1-BF06-6B2C936D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49D585-D21C-4490-BF41-44B0989D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EF02A8-804E-4249-A4E2-73A2C3D5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6802-A8DD-439F-89D1-029B52F2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6012B0-92C9-4422-A207-B79E861C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33B254-851D-4FCE-92B6-49855749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95F315-6E36-4DCD-A3E7-9F2E427A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6E39BE-7D28-4564-8E8E-94B8CE74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151793-A5EE-4941-8C78-CA2448F5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77FC89-5445-446E-A8A3-3C4F2EBD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E8E2A9-5019-472C-A8B1-4C034816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3C0C12-FEBA-4740-95B4-151CDEA8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C7EAC5-CB2E-4AC9-9227-FB27FD15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43DD3F-BA2E-4D69-A57F-0841388A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C086-B2BC-4EC7-9738-32206921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890A2B-CE22-4447-8B5B-0C724ED5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C00AF8-BE01-4126-B08D-C399BE70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A7FE63-40DF-4F56-961D-129D0F03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DE88B8-FF14-44DE-9E20-FB3E4D10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DC3753-0978-4648-ACFC-FE916A0A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1F4344-F7A8-4273-8BDD-39C252F0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4D4626-675E-4F11-88F4-C7F4F138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0974C4-CEB6-42A6-9B48-FA0DFA5D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D07A30-008A-4D34-9E70-5273CEB6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D6C4DE-BB15-436F-AE2D-1D5B7719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37AD-509E-4818-AAD9-F849D771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C95ADA-59AC-490B-BDA6-733283EB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7C890F-C86E-4088-B63D-F38C222B8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D2D675-644B-4903-BE27-815CE5B2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8E7419-FE71-4B97-8296-E7D3D7C1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4B7697-02B9-4DBD-B112-B3D2ABA2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DD4D5F-BBA3-4253-9CD0-FDA3DAD9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25F692-142B-4DFB-99F5-903B013C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8D6A86-1084-4946-8581-BFEDB616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3DE4FE-C8DB-48D3-B0D8-9E859250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FB6A25-1D4B-4EA0-B54C-1EDB608C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DBCE-4BE6-422F-8E13-6FAD3A39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CFEAD3-283A-4934-BB8E-8AAD5FD8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1B8889-D0B7-4EC5-8A46-A5047390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7D2F95-690B-437C-A965-4E6B1BD3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DC1403-1D0C-44C9-8427-947B9458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8470C9-73C5-4E50-A1C5-B911EE2F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CF2254-8391-4F71-BFF2-79167D99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5564B0-3185-42DD-8B3E-ECA171F0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37DD1A-A72E-4090-B9AB-9EFABF35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5E3EAC-BF39-4ED2-8837-CCBFD044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83DF92-C652-4D35-A6A7-C2E79AD9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421E-D245-4A46-B154-D1F53492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295F-2E20-4E01-9F98-8A117205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D871CF-1E5E-40A1-81EF-ACCB218B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E220F7-B2D1-4DA5-8A9E-2F78EBB1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4C4EBF-34C5-4538-9B53-128B9E37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27CA88-1382-414F-BC6F-D485404F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0A5FF7-4D46-4CB6-B9B7-5BA64473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CC6A41-6A73-44BA-9B85-77595A9F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A7FACF-2790-4B2D-8AC2-CBDCE831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B6FB79-E306-4210-9E12-BCA237A2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F038F0-3FFC-4503-BF6A-56C00A71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0D85F7-E036-4EA2-BB82-C482C8AB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7741-631D-450E-8E49-43C2E63D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1DE0F2-3D84-497D-9023-8C1D27C8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F31DD0-7C50-4B80-9800-BC9B2C23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9936AB-B58A-4678-B484-439DED33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FDDFEB-9332-4BA0-AC60-64E6A839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F059EE-6B16-47F9-B1A1-B2E5CA6A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D945D1-6919-4653-AB9D-680E9260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0AEFA1-3EEA-40B5-B284-8BDB815B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29D5-EAD8-4267-BFA9-B366F48C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EB97-244B-4263-91E7-FDD821C3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6ED1-8503-442C-9585-0C22032E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FA203EB-9E4F-4483-8CBE-548D2273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E2B4F3F-C2BF-462C-9818-FD732A78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55359CF-5F1B-49F9-B40B-FE932069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C863557-3ED7-4EB5-99D7-AA189E93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D326F69-E545-46BF-85A0-E9B8D90B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D351A54-C753-463E-A501-C5F6447D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90C7D7F-346C-45CB-9910-E15867D5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C8C25A1-A613-41F5-B4FE-D7B4943E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8127854-397E-461F-B3D7-B9528C7B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07924-E31A-4CA4-8360-9C108614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D392ED3-357C-4C55-85C3-B6567309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0EDC2FB-51FE-4BE0-8DDD-AF81C9EF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0BF4B86-8D6E-481A-861B-42FE61A1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12C1D9F-360F-4D09-B69F-AC3B63C0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B2C8409-B6F4-41F3-9F16-3E975EE3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B95394D-81C2-4710-82C6-B583F6D1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531D512-D7EE-42C5-8AAA-752C5FB4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5F396B2-E65A-49AD-ACC8-4590523E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32C7849-4AFD-4328-A8F7-50B3633E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8030522-0A9F-49E4-B4D5-F10FBC82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A37EF-83F9-4E6F-B356-566821C0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051DD7C-995D-4E45-838B-1CB2345C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7FED248-591A-4B6B-BA86-78391563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F784426-024A-4877-8D81-D9761EB6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A7D176A-0C59-4339-840A-8EA0B2E7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17860A0-EFCA-438E-8621-BE47360B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7DDD430-ED43-47DD-BF47-565DD55C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5E818F1-C1E2-46A8-882B-C9B769C1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37D2ED3-DBFF-42F6-B60B-8D9B06DF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9E52CFE-CDE6-471F-ABD8-A5BBA4FA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A46A7EE-B8D4-4A9D-A58F-D7507F08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A8416-3EC6-4476-B865-C70AD16B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28A514C-DC25-43D0-BFD5-5F61058C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8C8EB48-30F7-4B15-9BDD-E781F4A1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C8FD747-4085-464E-A103-2EBDE272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B695FD3-B4D6-45AD-B8F5-192B0D2D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6524CFC-CCE0-465D-844E-29FFA7A9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CE38F8F-DD7C-494C-84DF-CBEA63A5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F6CF760-A78F-4D5C-BA6D-2BD4F6D8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8C2CD7A-5D2E-43B4-8F66-B651EC73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95AB12D-60AC-4210-AEA0-CDB6DF7B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29EFF3D-BE54-433B-8286-D9215497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7EE86-5508-4345-8EBE-46F129FD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FB26B7A-1FB6-4149-A585-71E85D9D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31FF8AB-8563-4369-8798-1C1A6E96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9D8F4C7-56EC-40AA-86FB-96FFCD42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D549158-662B-4D02-80CF-D725F323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4C22764-DFCA-4806-AE66-3F1B0A65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919D2DC-AFB1-48ED-8AAB-BCEACBF4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A0ACE2F-CF06-46B6-9E81-16E7DD47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E2B0178-42C7-401E-B27E-56BB0F35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1BDF890-B0A7-45D5-8FBC-DD5A4036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12CD2-A06A-467E-ADEF-9570A8B8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B4B1-BDEC-42C5-A480-5EBB40E2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821CF-7FF8-43ED-B0D2-ADD0FC4E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DC4AB-4FB4-4D59-AFA7-FB1DA114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0417D-7D09-4FE1-99B1-CB903ECF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3A519-B8F6-4F16-8751-2DF789EA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0ACFD-05EB-4E0E-8F29-4AB921A1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9AE21-E7FA-416F-91B7-B1B6A1AA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30212-FCB4-4A8E-A124-634720AE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CF562-E23C-4930-85E3-374C7C49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0F70A-CD12-4890-9491-1ADD8B2F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44302-DF82-4741-8CF9-B4E9860B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1D49-8E24-467C-BE83-942CE751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10E7D-D1B7-4FB2-99CF-F8DCBC37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528FC-5DB3-4661-9369-E888A2A1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E65B7-9E37-43F4-80FA-E364801B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972EB-7CFD-47BC-B10F-BB18E8D4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85B31-0141-46D1-B0FB-E39FBD1D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121B2-E21D-44EF-9550-D8B1F7D1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D67F2-71FD-444C-80FC-1AAAD3BB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CE22F-147A-4050-9B8D-8E551AEC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0498A-5E8B-4EB2-960A-65E055A7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92F99-3B39-41D9-9108-9B569F00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F733-5EBA-442C-864F-CCDE21C2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BCAFB-1A15-4BAF-8FC9-A1113B9D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FEC0F-7452-4BCF-A7B7-5F461483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85E07-35E1-46F5-BAD3-2AC8DFFF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77AB4-2BF5-4C1F-8FB7-798E65BA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82E32-AD8D-4135-A609-2C270FF1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647C3-AAED-4964-84F5-870741D0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37763-8E72-45AF-9CEB-E5D98294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E81C9-8472-4441-97D1-68AA43C6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AA076-609E-4782-8B7A-662648C2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F5CAF-4C8C-4C70-A21C-4042A309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4CBA-D120-4310-B587-B08CDBBA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78980-98A2-4E36-94CC-406E3EB3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B537B-00D2-406B-8706-3EE8B68D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6B809-6D92-4248-947E-C7C40E1A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10254-CDFA-4C27-9AE0-762574AB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F6CCB-4B59-44D7-82E6-96C28D44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90D8A-5D06-4639-B573-53C72E67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259C8-9B67-4332-AD3C-552D0E6B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72A6E-FA4C-4A18-A51C-034888AB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38B5B-E98E-4267-A8C5-68CB328B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07922-B7B7-4E99-9922-04EE47AA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CECC-D6B6-4B5B-8678-1F9A96A6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BCB59-F7F7-4182-9016-B9980C45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210EC-630F-4AA6-80FC-01891041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DC16D-4732-4ED2-97C7-824AF309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5F8D9-2CD6-4AEA-BA4C-4B720FD2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68332-B132-4FA4-9367-947F74AC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969CA-BEA3-42A5-9ADE-5F037A52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5C154-6B0A-46F6-935B-05F75521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522AF-F01E-4EF3-8316-AA05736D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76081-8A71-4176-925C-568107F8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3DF14-9F06-4FF9-88FE-223F9F14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745F-12ED-420E-8DAD-E56CEB68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B2DF8-1164-4E3C-96C3-542F27B0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E6B95-ED05-4518-A9BB-9A8AED3C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C058F-43DA-4EE4-BE94-EF1BD066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79078-17DC-4A70-9B4A-6554CB7F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F69F1-2E03-4346-96C8-1A877F00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E2E67-7991-4987-80A9-95B8C521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C0243-267F-4112-8BAD-3101598A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98E2B-10DE-44DF-BA28-9FB134E2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D9C61-7638-4C53-A837-9D981EE6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996B9-E49D-41E4-A3B3-869916E9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CA38-392D-4FC2-B5E7-23513D7F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1F07A-1F2D-4D36-9CC2-E2EF3578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FB4E2-A0DB-4C03-984C-5056B198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89B6C-0ACA-4BDA-863B-6F1175E6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19A31-6B10-4F30-81A4-D86619ED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461D7-5E53-4739-9E44-75FF92B8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28AC0-C13E-48AB-B4BC-BD49C3B7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EA224-9069-4DA8-8ED3-81183336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D1A0E-3484-4158-B7DE-EB504F9A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F2A38-5DFE-4925-91E8-6B19F947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8A471-6582-4B37-80A9-CA824058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77.xml"/><Relationship Id="rId7" Type="http://schemas.openxmlformats.org/officeDocument/2006/relationships/slideLayout" Target="../slideLayouts/slideLayout278.xml"/><Relationship Id="rId8" Type="http://schemas.openxmlformats.org/officeDocument/2006/relationships/slideLayout" Target="../slideLayouts/slideLayout279.xml"/><Relationship Id="rId9" Type="http://schemas.openxmlformats.org/officeDocument/2006/relationships/slideLayout" Target="../slideLayouts/slideLayout280.xml"/><Relationship Id="rId10" Type="http://schemas.openxmlformats.org/officeDocument/2006/relationships/slideLayout" Target="../slideLayouts/slideLayout281.xml"/><Relationship Id="rId11" Type="http://schemas.openxmlformats.org/officeDocument/2006/relationships/slideLayout" Target="../slideLayouts/slideLayout282.xml"/><Relationship Id="rId12" Type="http://schemas.openxmlformats.org/officeDocument/2006/relationships/slideLayout" Target="../slideLayouts/slideLayout283.xml"/><Relationship Id="rId13" Type="http://schemas.openxmlformats.org/officeDocument/2006/relationships/slideLayout" Target="../slideLayouts/slideLayout284.xml"/><Relationship Id="rId14" Type="http://schemas.openxmlformats.org/officeDocument/2006/relationships/slideLayout" Target="../slideLayouts/slideLayout285.xml"/><Relationship Id="rId15" Type="http://schemas.openxmlformats.org/officeDocument/2006/relationships/slideLayout" Target="../slideLayouts/slideLayout286.xml"/><Relationship Id="rId16" Type="http://schemas.openxmlformats.org/officeDocument/2006/relationships/slideLayout" Target="../slideLayouts/slideLayout287.xml"/><Relationship Id="rId17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3AFF-32F6-4BBE-B52B-DB792B62F0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" descr="wireframeOverlay-Home.png"/>
          <p:cNvPicPr/>
          <p:nvPr/>
        </p:nvPicPr>
        <p:blipFill>
          <a:blip r:embed="rId5"/>
          <a:srcRect l="0" t="-93970" r="0" b="0"/>
          <a:stretch/>
        </p:blipFill>
        <p:spPr>
          <a:xfrm>
            <a:off x="179280" y="1182600"/>
            <a:ext cx="8786880" cy="52768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DirectionalButtons-RightOnly.png"/>
          <p:cNvPicPr/>
          <p:nvPr/>
        </p:nvPicPr>
        <p:blipFill>
          <a:blip r:embed="rId6"/>
          <a:stretch/>
        </p:blipFill>
        <p:spPr>
          <a:xfrm>
            <a:off x="7821720" y="53352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0330-0FB8-4652-B7AD-DD15B4B834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1C71-B30D-46F4-BB71-22027D27E0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8" descr="wireframeOverlay-TCFull.png"/>
          <p:cNvPicPr/>
          <p:nvPr/>
        </p:nvPicPr>
        <p:blipFill>
          <a:blip r:embed="rId5"/>
          <a:srcRect l="-198725" t="0" r="0" b="0"/>
          <a:stretch/>
        </p:blipFill>
        <p:spPr>
          <a:xfrm>
            <a:off x="177840" y="1179360"/>
            <a:ext cx="8788320" cy="527688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A3B6-B68D-4C11-921C-D6943A34F2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wireframeOverlay-SectionH.png"/>
          <p:cNvPicPr/>
          <p:nvPr/>
        </p:nvPicPr>
        <p:blipFill>
          <a:blip r:embed="rId5"/>
          <a:srcRect l="0" t="0" r="-91873" b="0"/>
          <a:stretch/>
        </p:blipFill>
        <p:spPr>
          <a:xfrm>
            <a:off x="182520" y="1179360"/>
            <a:ext cx="8785440" cy="527688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9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C2C9-C0A5-41A3-AA79-CC4F563A5E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0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1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2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1403-8765-4689-8BA7-9DD4AABCFA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4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4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45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E8C7-8686-49BB-AE5B-187537D6FD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46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47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48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5D3E-93B8-4DA2-AE66-887ADCFA2D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8" descr="wireframeOverlay-ContentCap.png"/>
          <p:cNvPicPr/>
          <p:nvPr/>
        </p:nvPicPr>
        <p:blipFill>
          <a:blip r:embed="rId5"/>
          <a:srcRect l="0" t="0" r="0" b="-135873"/>
          <a:stretch/>
        </p:blipFill>
        <p:spPr>
          <a:xfrm>
            <a:off x="182520" y="1179360"/>
            <a:ext cx="4229280" cy="527400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49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50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51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6D84-8A77-476C-B956-965C958288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19AC-25DC-417A-BBA8-F3C42B6F32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18252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5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5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0CB8-4FC1-4D0F-BE8A-59A35F5C3B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8"/>
          <p:cNvSpPr/>
          <p:nvPr/>
        </p:nvSpPr>
        <p:spPr>
          <a:xfrm>
            <a:off x="182520" y="3281400"/>
            <a:ext cx="8788320" cy="317484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5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5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383544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59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60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61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4A27-AA35-4AE8-ABDD-A1817B04FE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6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6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6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1F22-208C-48BB-934D-FA4AD3E5CF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8" descr="wireframeOverlay-VerticalTC.png"/>
          <p:cNvPicPr/>
          <p:nvPr/>
        </p:nvPicPr>
        <p:blipFill>
          <a:blip r:embed="rId5"/>
          <a:srcRect l="0" t="-93643" r="0" b="0"/>
          <a:stretch/>
        </p:blipFill>
        <p:spPr>
          <a:xfrm>
            <a:off x="7445520" y="1177920"/>
            <a:ext cx="1523880" cy="5275440"/>
          </a:xfrm>
          <a:prstGeom prst="rect">
            <a:avLst/>
          </a:prstGeom>
          <a:ln w="0">
            <a:noFill/>
          </a:ln>
        </p:spPr>
      </p:pic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dt" idx="6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ftr" idx="6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sldNum" idx="6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1436-3CDE-42E0-BA24-8429D4A2BB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1030" name="Rectangle 8"/>
          <p:cNvSpPr/>
          <p:nvPr/>
        </p:nvSpPr>
        <p:spPr>
          <a:xfrm>
            <a:off x="182520" y="1179360"/>
            <a:ext cx="8788320" cy="527688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10" descr="DirectionalButtons-LeftOnlyOnly.png"/>
          <p:cNvPicPr/>
          <p:nvPr/>
        </p:nvPicPr>
        <p:blipFill>
          <a:blip r:embed="rId5"/>
          <a:stretch/>
        </p:blipFill>
        <p:spPr>
          <a:xfrm>
            <a:off x="7837560" y="5382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6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6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7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76FB-C6F1-445A-BC9B-1E127DDF2D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6"/>
    <p:sldLayoutId id="2147483949" r:id="rId7"/>
    <p:sldLayoutId id="2147483950" r:id="rId8"/>
    <p:sldLayoutId id="2147483951" r:id="rId9"/>
    <p:sldLayoutId id="2147483952" r:id="rId10"/>
    <p:sldLayoutId id="2147483953" r:id="rId11"/>
    <p:sldLayoutId id="2147483954" r:id="rId12"/>
    <p:sldLayoutId id="2147483955" r:id="rId13"/>
    <p:sldLayoutId id="2147483956" r:id="rId14"/>
    <p:sldLayoutId id="2147483957" r:id="rId15"/>
    <p:sldLayoutId id="2147483958" r:id="rId16"/>
    <p:sldLayoutId id="2147483959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2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95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8BA8-1492-4426-8294-8A11FC67B3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2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5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F71D-15BE-4F2A-A1D1-2B7130B650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1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E49B-89CE-4DBE-9CFC-5EE919D0EC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7A23-667E-4A42-B171-92CE2514A0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4692-E1BC-4590-A16E-42D042B037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5063-37BD-4BE3-B625-9655E11975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67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0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2583-0351-43E3-A08C-8270CC05F7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17600" y="2168640"/>
            <a:ext cx="8307360" cy="103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BUSINESS &amp; INTERNET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761760" y="3809880"/>
            <a:ext cx="79628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2f2f2"/>
                </a:solidFill>
                <a:latin typeface="Calibri"/>
              </a:rPr>
              <a:t>By </a:t>
            </a:r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2f2f2"/>
                </a:solidFill>
                <a:latin typeface="Calibri"/>
              </a:rPr>
              <a:t>Pablo, Duy and Tao</a:t>
            </a:r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7DAC-C05E-4F18-B9AE-F7E31F9E9F27}" type="datetime">
              <a:rPr b="0" i="1" lang="en-US" sz="3100" spc="-1" strike="noStrike">
                <a:solidFill>
                  <a:srgbClr val="f2f2f2"/>
                </a:solidFill>
                <a:latin typeface="Calibri"/>
              </a:rPr>
              <a:t>07/29/26</a:t>
            </a:fld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E-COMMER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efini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ome examples/ Us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B2B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B2C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E-mai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nstant messaging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-COMMER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Online shopping and order track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Online bank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hopping cart softwa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eleconferenc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Electronic ticket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415440" y="2437920"/>
            <a:ext cx="7890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1"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INTERNET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2" marL="4572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Important tool for business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1" marL="228600" indent="-22860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Made business easier and faster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1" marL="228600" indent="-22860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Have changed the way how companies encourage customers 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404040"/>
                </a:solidFill>
                <a:latin typeface="Calibri"/>
              </a:rPr>
              <a:t>FUTURE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1" marL="228600" indent="-22860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Companies working only through internet,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1" marL="228600" indent="-22860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non presential,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1" marL="228600" indent="-22860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online office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FERENCE LIS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`Wikipedia – E-commerce´, http://en.wikipedia.org/wiki/E-commerce , 22/05/2010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`Wikipedia – Internet´, http://en.wikipedia.org/wiki/Internet , 22/05/2010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44040" y="990360"/>
            <a:ext cx="225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EN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1143000" y="4038480"/>
            <a:ext cx="65419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b86"/>
                </a:solidFill>
                <a:latin typeface="Calibri"/>
              </a:rPr>
              <a:t>THANK YOU FOR LISTENING!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.=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115" name="Picture 4" descr="pirate63"/>
          <p:cNvPicPr/>
          <p:nvPr/>
        </p:nvPicPr>
        <p:blipFill>
          <a:blip r:embed="rId2"/>
          <a:stretch/>
        </p:blipFill>
        <p:spPr>
          <a:xfrm>
            <a:off x="2878200" y="228600"/>
            <a:ext cx="291312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nternet Introdu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Modern us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onclus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ferenc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ternet Introduc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nternet Histor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RPA (Advanced Research Project Agency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e Foundation of Interne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6858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RPANE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CP (Transmission Control Protocol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Internet”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odern 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ACCOU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E-COMMERC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Accounting descrip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Old method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Use of computer and internet in Accou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15440" y="2057400"/>
            <a:ext cx="8309160" cy="54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What is Accounting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e 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ART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of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record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lassify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and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summariz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in a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significant manner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nd in terms of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money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transactions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and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events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which are, in part at least, of </a:t>
            </a:r>
            <a:r>
              <a:rPr b="0" lang="en-US" sz="3200" spc="-1" strike="noStrike">
                <a:solidFill>
                  <a:srgbClr val="3c653c"/>
                </a:solidFill>
                <a:latin typeface="Calibri"/>
              </a:rPr>
              <a:t>financial character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and </a:t>
            </a:r>
            <a:r>
              <a:rPr b="0" lang="en-US" sz="2000" spc="-1" strike="noStrike">
                <a:solidFill>
                  <a:srgbClr val="3c653c"/>
                </a:solidFill>
                <a:latin typeface="Calibri"/>
              </a:rPr>
              <a:t>interpreting the results thereof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.(AICPA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092" name="Picture 5" descr="MoneyChart.jpg"/>
          <p:cNvPicPr/>
          <p:nvPr/>
        </p:nvPicPr>
        <p:blipFill>
          <a:blip r:embed="rId2"/>
          <a:stretch/>
        </p:blipFill>
        <p:spPr>
          <a:xfrm>
            <a:off x="5572080" y="214200"/>
            <a:ext cx="3286080" cy="1704960"/>
          </a:xfrm>
          <a:prstGeom prst="rect">
            <a:avLst/>
          </a:prstGeom>
          <a:ln w="0">
            <a:noFill/>
          </a:ln>
        </p:spPr>
      </p:pic>
      <p:sp>
        <p:nvSpPr>
          <p:cNvPr id="1093" name="AutoShape 2"/>
          <p:cNvSpPr/>
          <p:nvPr/>
        </p:nvSpPr>
        <p:spPr>
          <a:xfrm>
            <a:off x="45396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nual 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 bookkeeper kept the journals, the accounts receivable, the accounts payable and the ledgers in his best possible penmanship</a:t>
            </a:r>
            <a:r>
              <a:rPr b="0" lang="en-US" sz="2000" spc="-1" strike="noStrike" baseline="30000">
                <a:solidFill>
                  <a:srgbClr val="404040"/>
                </a:solidFill>
                <a:latin typeface="Calibri"/>
              </a:rPr>
              <a:t>(*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096" name="Picture 6" descr="Accounting[1].jpg"/>
          <p:cNvPicPr/>
          <p:nvPr/>
        </p:nvPicPr>
        <p:blipFill>
          <a:blip r:embed="rId2"/>
          <a:stretch/>
        </p:blipFill>
        <p:spPr>
          <a:xfrm>
            <a:off x="1357200" y="3929040"/>
            <a:ext cx="7072560" cy="2428920"/>
          </a:xfrm>
          <a:prstGeom prst="rect">
            <a:avLst/>
          </a:prstGeom>
          <a:ln w="0">
            <a:noFill/>
          </a:ln>
        </p:spPr>
      </p:pic>
      <p:sp>
        <p:nvSpPr>
          <p:cNvPr id="1097" name="AutoShape 2"/>
          <p:cNvSpPr/>
          <p:nvPr/>
        </p:nvSpPr>
        <p:spPr>
          <a:xfrm>
            <a:off x="45396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Computerise 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One of the first accounting programs was 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Lotus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1-2-3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(1983)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mall test</a:t>
            </a:r>
            <a:r>
              <a:rPr b="0" lang="en-US" sz="2400" spc="-1" strike="noStrike" baseline="30000">
                <a:solidFill>
                  <a:srgbClr val="404040"/>
                </a:solidFill>
                <a:latin typeface="Calibri"/>
              </a:rPr>
              <a:t>(*)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00" name=""/>
          <p:cNvGraphicFramePr/>
          <p:nvPr/>
        </p:nvGraphicFramePr>
        <p:xfrm>
          <a:off x="2743200" y="3627360"/>
          <a:ext cx="5553000" cy="2773440"/>
        </p:xfrm>
        <a:graphic>
          <a:graphicData uri="http://schemas.openxmlformats.org/drawingml/2006/table">
            <a:tbl>
              <a:tblPr/>
              <a:tblGrid>
                <a:gridCol w="2751120"/>
                <a:gridCol w="280188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nd-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 minutes to set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 minutes to perform the comput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 seconds to load the spreadsh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 minutes to input the inform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ss than one second for it to be tabulated and prin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</a:tr>
            </a:tbl>
          </a:graphicData>
        </a:graphic>
      </p:graphicFrame>
      <p:sp>
        <p:nvSpPr>
          <p:cNvPr id="1101" name="AutoShape 2"/>
          <p:cNvSpPr/>
          <p:nvPr/>
        </p:nvSpPr>
        <p:spPr>
          <a:xfrm>
            <a:off x="38088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ternet and 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3" name="" descr=""/>
          <p:cNvPicPr/>
          <p:nvPr/>
        </p:nvPicPr>
        <p:blipFill>
          <a:blip r:embed="rId2"/>
          <a:stretch/>
        </p:blipFill>
        <p:spPr>
          <a:xfrm>
            <a:off x="415440" y="2755800"/>
            <a:ext cx="8309160" cy="3492720"/>
          </a:xfrm>
          <a:prstGeom prst="rect">
            <a:avLst/>
          </a:prstGeom>
          <a:ln w="0">
            <a:noFill/>
          </a:ln>
        </p:spPr>
      </p:pic>
      <p:sp>
        <p:nvSpPr>
          <p:cNvPr id="1104" name="AutoShape 2"/>
          <p:cNvSpPr/>
          <p:nvPr/>
        </p:nvSpPr>
        <p:spPr>
          <a:xfrm>
            <a:off x="45396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2:37:44Z</dcterms:created>
  <dc:creator>Microsoft</dc:creator>
  <dc:description/>
  <dc:language>en-US</dc:language>
  <cp:lastModifiedBy>Office 2004 Test Drive User</cp:lastModifiedBy>
  <dcterms:modified xsi:type="dcterms:W3CDTF">2010-05-24T03:33:20Z</dcterms:modified>
  <cp:revision>32</cp:revision>
  <dc:subject/>
  <dc:title>Internet</dc:title>
</cp:coreProperties>
</file>